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jetflyby2.wav" ContentType="audio/x-wav"/>
  <Override PartName="/ppt/media/bserie06.wav" ContentType="audio/x-wav"/>
  <Override PartName="/ppt/media/highchime.wav" ContentType="audio/x-wav"/>
  <Override PartName="/ppt/media/meepmeep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12B-DE10-4C84-A208-95BF2E74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D06-AE83-4D82-BC75-E2293A0F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B2E-363D-4DC8-8F92-5129434E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7C4-D91F-4E60-BB03-D0355FB0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9DA-3340-40C0-A790-F06AD01D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C20-5205-421F-A45A-82ADE89A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EB4-22BB-4BF3-8ECC-EBA24685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690-2349-4A97-AD77-FDE7E2ED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317-4FBA-4CCB-BD08-4AACC810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818-7585-41D8-9C12-41C360B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464-12A4-4049-99E4-29F5097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4EB-E45E-4AB8-B33B-13EEE406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A446-F5C8-446E-ACFC-1AEC7D757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zipdn102.wav"/><Relationship Id="rId5" Type="http://schemas.openxmlformats.org/officeDocument/2006/relationships/audio" Target="../media/highchime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meepmeep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meepmeep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meepmeep.wav"/><Relationship Id="rId8" Type="http://schemas.openxmlformats.org/officeDocument/2006/relationships/audio" Target="../media/meepmeep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highchime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meepmeep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caralarmoff.wav"/><Relationship Id="rId22" Type="http://schemas.openxmlformats.org/officeDocument/2006/relationships/audio" Target="../media/bserie06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bserie06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jetflyby2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jetflyby2.wav"/><Relationship Id="rId26" Type="http://schemas.openxmlformats.org/officeDocument/2006/relationships/audio" Target="../media/jetflyby2.wav"/><Relationship Id="rId27" Type="http://schemas.openxmlformats.org/officeDocument/2006/relationships/audio" Target="../media/jetflyby2.wav"/><Relationship Id="rId28" Type="http://schemas.openxmlformats.org/officeDocument/2006/relationships/audio" Target="../media/jetflyby2.wav"/><Relationship Id="rId29" Type="http://schemas.openxmlformats.org/officeDocument/2006/relationships/audio" Target="../media/jetflyby2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zapbig0g.wav"/><Relationship Id="rId33" Type="http://schemas.openxmlformats.org/officeDocument/2006/relationships/audio" Target="../media/zapbig0g.wav"/><Relationship Id="rId34" Type="http://schemas.openxmlformats.org/officeDocument/2006/relationships/audio" Target="../media/zapbig0g.wav"/><Relationship Id="rId35" Type="http://schemas.openxmlformats.org/officeDocument/2006/relationships/audio" Target="../media/jetflyby2.wav"/><Relationship Id="rId36" Type="http://schemas.openxmlformats.org/officeDocument/2006/relationships/audio" Target="../media/jetflyby2.wav"/><Relationship Id="rId37" Type="http://schemas.openxmlformats.org/officeDocument/2006/relationships/audio" Target="../media/jetflyby2.wav"/><Relationship Id="rId38" Type="http://schemas.openxmlformats.org/officeDocument/2006/relationships/audio" Target="../media/jetflyby2.wav"/><Relationship Id="rId39" Type="http://schemas.openxmlformats.org/officeDocument/2006/relationships/audio" Target="../media/jetflyby2.wav"/><Relationship Id="rId40" Type="http://schemas.openxmlformats.org/officeDocument/2006/relationships/audio" Target="../media/zapbig0g.wav"/><Relationship Id="rId41" Type="http://schemas.openxmlformats.org/officeDocument/2006/relationships/audio" Target="../media/zapbig0g.wav"/><Relationship Id="rId42" Type="http://schemas.openxmlformats.org/officeDocument/2006/relationships/audio" Target="../media/zapbig0g.wav"/><Relationship Id="rId43" Type="http://schemas.openxmlformats.org/officeDocument/2006/relationships/audio" Target="../media/zapbig0g.wav"/><Relationship Id="rId44" Type="http://schemas.openxmlformats.org/officeDocument/2006/relationships/audio" Target="../media/zapbig0g.wav"/><Relationship Id="rId45" Type="http://schemas.openxmlformats.org/officeDocument/2006/relationships/audio" Target="../media/jetflyby2.wav"/><Relationship Id="rId46" Type="http://schemas.openxmlformats.org/officeDocument/2006/relationships/audio" Target="../media/jetflyby2.wav"/><Relationship Id="rId47" Type="http://schemas.openxmlformats.org/officeDocument/2006/relationships/audio" Target="../media/jetflyby2.wav"/><Relationship Id="rId48" Type="http://schemas.openxmlformats.org/officeDocument/2006/relationships/audio" Target="../media/jetflyby2.wav"/><Relationship Id="rId49" Type="http://schemas.openxmlformats.org/officeDocument/2006/relationships/audio" Target="../media/jetflyby2.wav"/><Relationship Id="rId50" Type="http://schemas.openxmlformats.org/officeDocument/2006/relationships/audio" Target="../media/zapbig0g.wav"/><Relationship Id="rId51" Type="http://schemas.openxmlformats.org/officeDocument/2006/relationships/audio" Target="../media/zapbig0g.wav"/><Relationship Id="rId52" Type="http://schemas.openxmlformats.org/officeDocument/2006/relationships/audio" Target="../media/zapbig0g.wav"/><Relationship Id="rId53" Type="http://schemas.openxmlformats.org/officeDocument/2006/relationships/audio" Target="../media/zapbig0g.wav"/><Relationship Id="rId54" Type="http://schemas.openxmlformats.org/officeDocument/2006/relationships/audio" Target="../media/zapbig0g.wav"/><Relationship Id="rId55" Type="http://schemas.openxmlformats.org/officeDocument/2006/relationships/audio" Target="../media/caralarmoff.wav"/><Relationship Id="rId5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Use the calculator to write a decimal for each fraction or mixed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58880" y="1820880"/>
                <a:ext cx="132696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003320" y="3865680"/>
                <a:ext cx="566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46280" y="3963960"/>
                <a:ext cx="566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98600" y="3860640"/>
                <a:ext cx="517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648240" y="3841920"/>
                <a:ext cx="1068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890800" y="4013280"/>
                <a:ext cx="5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3043080" y="2087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o write as a decimal, just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Use the calculator to write a decimal for each fraction or mixed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20560" y="1835280"/>
                <a:ext cx="171936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58880" y="3840120"/>
                <a:ext cx="825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46280" y="3963960"/>
                <a:ext cx="566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47840" y="3860640"/>
                <a:ext cx="8794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906720" y="3843360"/>
                <a:ext cx="1425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197160" y="3998880"/>
                <a:ext cx="5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3080" y="2087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o write as a decimal, just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Use the calculator to write a decimal for each fraction or mixed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9200" y="1835280"/>
                <a:ext cx="206208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66840" y="3854520"/>
                <a:ext cx="1288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646280" y="3963960"/>
                <a:ext cx="566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70160" y="3860640"/>
                <a:ext cx="1241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237200" y="3857760"/>
                <a:ext cx="42764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666666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530520" y="3998880"/>
                <a:ext cx="5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043080" y="2087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o write as a decimal, just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459240" y="4692600"/>
                <a:ext cx="1985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Use the calculator to write a decimal for each fraction or mixed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2360" y="1835280"/>
                <a:ext cx="21114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98320" y="3854520"/>
                <a:ext cx="825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646280" y="3963960"/>
                <a:ext cx="566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451240" y="3860640"/>
                <a:ext cx="8794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043080" y="2087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o write as a decimal, just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429000" y="396252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076640" y="3884760"/>
                <a:ext cx="517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440320" y="3895560"/>
                <a:ext cx="1425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00520" y="4037040"/>
                <a:ext cx="5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0344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reddie can take two friends to a movie. He has 5 friends: Jose, Luis, Monica, Cheryl, and Diane. He wants to take 1 boy and 1 girl. How many pairs of friends can he choose from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55148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dd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6720" y="2540160"/>
            <a:ext cx="10954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3640" y="2560680"/>
            <a:ext cx="10954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51120" y="3657600"/>
            <a:ext cx="9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43200" y="5435640"/>
            <a:ext cx="9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03680" y="309888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0160" y="3659040"/>
            <a:ext cx="14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r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03680" y="424800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97200" y="487692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03680" y="543708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r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97200" y="602604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2" idx="3"/>
            <a:endCxn id="85" idx="1"/>
          </p:cNvCxnSpPr>
          <p:nvPr/>
        </p:nvCxnSpPr>
        <p:spPr>
          <a:xfrm flipV="1">
            <a:off x="1471680" y="3947400"/>
            <a:ext cx="380160" cy="894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2" idx="3"/>
            <a:endCxn id="86" idx="1"/>
          </p:cNvCxnSpPr>
          <p:nvPr/>
        </p:nvCxnSpPr>
        <p:spPr>
          <a:xfrm>
            <a:off x="1471680" y="4842000"/>
            <a:ext cx="372240" cy="884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5" idx="3"/>
            <a:endCxn id="87" idx="1"/>
          </p:cNvCxnSpPr>
          <p:nvPr/>
        </p:nvCxnSpPr>
        <p:spPr>
          <a:xfrm flipV="1">
            <a:off x="2757600" y="3389400"/>
            <a:ext cx="946800" cy="559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5" idx="3"/>
            <a:endCxn id="88" idx="1"/>
          </p:cNvCxnSpPr>
          <p:nvPr/>
        </p:nvCxnSpPr>
        <p:spPr>
          <a:xfrm>
            <a:off x="2757600" y="3948120"/>
            <a:ext cx="9532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5" idx="3"/>
            <a:endCxn id="89" idx="1"/>
          </p:cNvCxnSpPr>
          <p:nvPr/>
        </p:nvCxnSpPr>
        <p:spPr>
          <a:xfrm>
            <a:off x="2757600" y="3948120"/>
            <a:ext cx="94680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86" idx="3"/>
            <a:endCxn id="90" idx="1"/>
          </p:cNvCxnSpPr>
          <p:nvPr/>
        </p:nvCxnSpPr>
        <p:spPr>
          <a:xfrm flipV="1">
            <a:off x="2749680" y="5167440"/>
            <a:ext cx="948240" cy="559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6" idx="3"/>
            <a:endCxn id="91" idx="1"/>
          </p:cNvCxnSpPr>
          <p:nvPr/>
        </p:nvCxnSpPr>
        <p:spPr>
          <a:xfrm>
            <a:off x="2749680" y="5726160"/>
            <a:ext cx="954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6" idx="3"/>
            <a:endCxn id="92" idx="1"/>
          </p:cNvCxnSpPr>
          <p:nvPr/>
        </p:nvCxnSpPr>
        <p:spPr>
          <a:xfrm>
            <a:off x="2749680" y="5726160"/>
            <a:ext cx="94824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6213600" y="2151000"/>
            <a:ext cx="26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6 pai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31000" y="306396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se and M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1000" y="369576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se and Cher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1000" y="428292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se and Di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31000" y="488628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is and M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547200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is and Cher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31000" y="602928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is and Di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03440"/>
            <a:ext cx="3149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Armando has 2 shirts, 2 suits, and 5 ties. How many outfits can he mak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3280" y="510696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773280"/>
            <a:ext cx="9540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75200" y="739800"/>
            <a:ext cx="8780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05360" y="4357800"/>
            <a:ext cx="11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56120" y="5773680"/>
            <a:ext cx="11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43880" y="4148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50000" y="44323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43880" y="47163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0" idx="3"/>
            <a:endCxn id="113" idx="1"/>
          </p:cNvCxnSpPr>
          <p:nvPr/>
        </p:nvCxnSpPr>
        <p:spPr>
          <a:xfrm flipV="1">
            <a:off x="5484960" y="4647600"/>
            <a:ext cx="321120" cy="749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0" idx="3"/>
            <a:endCxn id="114" idx="1"/>
          </p:cNvCxnSpPr>
          <p:nvPr/>
        </p:nvCxnSpPr>
        <p:spPr>
          <a:xfrm>
            <a:off x="5484600" y="5397480"/>
            <a:ext cx="371880" cy="667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3" idx="3"/>
            <a:endCxn id="115" idx="1"/>
          </p:cNvCxnSpPr>
          <p:nvPr/>
        </p:nvCxnSpPr>
        <p:spPr>
          <a:xfrm flipV="1">
            <a:off x="6972120" y="4376520"/>
            <a:ext cx="672120" cy="27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13" idx="3"/>
            <a:endCxn id="116" idx="1"/>
          </p:cNvCxnSpPr>
          <p:nvPr/>
        </p:nvCxnSpPr>
        <p:spPr>
          <a:xfrm>
            <a:off x="6972480" y="4647960"/>
            <a:ext cx="67788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3" idx="3"/>
            <a:endCxn id="117" idx="1"/>
          </p:cNvCxnSpPr>
          <p:nvPr/>
        </p:nvCxnSpPr>
        <p:spPr>
          <a:xfrm>
            <a:off x="6972120" y="4648320"/>
            <a:ext cx="672120" cy="297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76200" y="3440160"/>
            <a:ext cx="26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20 pai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86560" y="558720"/>
            <a:ext cx="8780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64400" y="38656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3" idx="3"/>
            <a:endCxn id="125" idx="1"/>
          </p:cNvCxnSpPr>
          <p:nvPr/>
        </p:nvCxnSpPr>
        <p:spPr>
          <a:xfrm flipV="1">
            <a:off x="6972480" y="4093560"/>
            <a:ext cx="692640" cy="554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7648560" y="49849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3" idx="3"/>
            <a:endCxn id="127" idx="1"/>
          </p:cNvCxnSpPr>
          <p:nvPr/>
        </p:nvCxnSpPr>
        <p:spPr>
          <a:xfrm>
            <a:off x="6972480" y="4648320"/>
            <a:ext cx="676800" cy="565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7651800" y="55641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58280" y="584820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51800" y="61326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4" idx="3"/>
            <a:endCxn id="129" idx="1"/>
          </p:cNvCxnSpPr>
          <p:nvPr/>
        </p:nvCxnSpPr>
        <p:spPr>
          <a:xfrm flipV="1">
            <a:off x="7023240" y="5792400"/>
            <a:ext cx="629280" cy="27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14" idx="3"/>
            <a:endCxn id="130" idx="1"/>
          </p:cNvCxnSpPr>
          <p:nvPr/>
        </p:nvCxnSpPr>
        <p:spPr>
          <a:xfrm>
            <a:off x="7023240" y="6063840"/>
            <a:ext cx="63576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14" idx="3"/>
            <a:endCxn id="131" idx="1"/>
          </p:cNvCxnSpPr>
          <p:nvPr/>
        </p:nvCxnSpPr>
        <p:spPr>
          <a:xfrm>
            <a:off x="7023240" y="6063840"/>
            <a:ext cx="629280" cy="297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7672320" y="52815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14" idx="3"/>
            <a:endCxn id="135" idx="1"/>
          </p:cNvCxnSpPr>
          <p:nvPr/>
        </p:nvCxnSpPr>
        <p:spPr>
          <a:xfrm flipV="1">
            <a:off x="7022880" y="5509440"/>
            <a:ext cx="649800" cy="554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7656480" y="64008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14" idx="3"/>
            <a:endCxn id="137" idx="1"/>
          </p:cNvCxnSpPr>
          <p:nvPr/>
        </p:nvCxnSpPr>
        <p:spPr>
          <a:xfrm>
            <a:off x="7022880" y="6064200"/>
            <a:ext cx="633960" cy="565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013280" y="228276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r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5360" y="1533600"/>
            <a:ext cx="11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56120" y="2949480"/>
            <a:ext cx="11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43880" y="1324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50000" y="16081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43880" y="18921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9" idx="3"/>
            <a:endCxn id="140" idx="1"/>
          </p:cNvCxnSpPr>
          <p:nvPr/>
        </p:nvCxnSpPr>
        <p:spPr>
          <a:xfrm flipV="1">
            <a:off x="5484960" y="1823400"/>
            <a:ext cx="321120" cy="749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9" idx="3"/>
            <a:endCxn id="141" idx="1"/>
          </p:cNvCxnSpPr>
          <p:nvPr/>
        </p:nvCxnSpPr>
        <p:spPr>
          <a:xfrm>
            <a:off x="5484600" y="2573280"/>
            <a:ext cx="371880" cy="667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0" idx="3"/>
            <a:endCxn id="142" idx="1"/>
          </p:cNvCxnSpPr>
          <p:nvPr/>
        </p:nvCxnSpPr>
        <p:spPr>
          <a:xfrm flipV="1">
            <a:off x="6972120" y="1552320"/>
            <a:ext cx="672120" cy="27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0" idx="3"/>
            <a:endCxn id="143" idx="1"/>
          </p:cNvCxnSpPr>
          <p:nvPr/>
        </p:nvCxnSpPr>
        <p:spPr>
          <a:xfrm>
            <a:off x="6972480" y="1823760"/>
            <a:ext cx="67788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0" idx="3"/>
            <a:endCxn id="144" idx="1"/>
          </p:cNvCxnSpPr>
          <p:nvPr/>
        </p:nvCxnSpPr>
        <p:spPr>
          <a:xfrm>
            <a:off x="6972120" y="1824120"/>
            <a:ext cx="672120" cy="297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7664400" y="10414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0" idx="3"/>
            <a:endCxn id="150" idx="1"/>
          </p:cNvCxnSpPr>
          <p:nvPr/>
        </p:nvCxnSpPr>
        <p:spPr>
          <a:xfrm flipV="1">
            <a:off x="6972480" y="1269360"/>
            <a:ext cx="692640" cy="554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7648560" y="21607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0" idx="3"/>
            <a:endCxn id="152" idx="1"/>
          </p:cNvCxnSpPr>
          <p:nvPr/>
        </p:nvCxnSpPr>
        <p:spPr>
          <a:xfrm>
            <a:off x="6972480" y="1824120"/>
            <a:ext cx="676800" cy="565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7651800" y="27399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8280" y="302436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51800" y="3308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1" idx="3"/>
            <a:endCxn id="154" idx="1"/>
          </p:cNvCxnSpPr>
          <p:nvPr/>
        </p:nvCxnSpPr>
        <p:spPr>
          <a:xfrm flipV="1">
            <a:off x="7023240" y="2968200"/>
            <a:ext cx="629280" cy="27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41" idx="3"/>
            <a:endCxn id="155" idx="1"/>
          </p:cNvCxnSpPr>
          <p:nvPr/>
        </p:nvCxnSpPr>
        <p:spPr>
          <a:xfrm>
            <a:off x="7023240" y="3240000"/>
            <a:ext cx="635760" cy="13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1" idx="3"/>
            <a:endCxn id="156" idx="1"/>
          </p:cNvCxnSpPr>
          <p:nvPr/>
        </p:nvCxnSpPr>
        <p:spPr>
          <a:xfrm>
            <a:off x="7023240" y="3239640"/>
            <a:ext cx="629280" cy="297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7672320" y="24573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41" idx="3"/>
            <a:endCxn id="160" idx="1"/>
          </p:cNvCxnSpPr>
          <p:nvPr/>
        </p:nvCxnSpPr>
        <p:spPr>
          <a:xfrm flipV="1">
            <a:off x="7022880" y="2685240"/>
            <a:ext cx="649800" cy="554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7656480" y="35766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022880" y="3240000"/>
            <a:ext cx="633960" cy="565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83, 7 – 9 #1 – 1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85, 7 – 10 #1 – 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65/6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12-13T17:56:53Z</dcterms:modified>
  <cp:revision>85</cp:revision>
  <dc:subject/>
  <dc:title>Slide 1</dc:title>
</cp:coreProperties>
</file>